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1CFC3-3D43-42EF-B424-60A1462C3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BF25A-18C7-4398-8FF0-0F13E1570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278BB-0492-4FD7-BF63-D0A5841E8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542A1-E06B-490A-A97A-04639E139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B760C-51CE-42A2-A2DF-543B219AC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5E6E0-679B-470D-8365-D4E3B1225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60FB0-A485-43DA-A885-FC0EE6127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8D1B8-61B0-4B51-9D54-878A9CEDD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119E4-E8E5-4EDE-B34E-7F54A62E3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B6531-BCC3-46C3-BEA6-A881A25A4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C765D-C05D-4B88-B222-EC03E1AA8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C8A00-DA56-4CA4-9020-656BFE39D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4E8F8-B425-46D8-99E1-60972BBBF6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urlz MT"/>
              </a:rPr>
              <a:t>Spring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urlz MT"/>
              </a:rPr>
              <a:t>By Miss Woodruf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urlz MT"/>
              </a:rPr>
              <a:t>Weathe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urlz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urlz MT"/>
              </a:rPr>
              <a:t>April showers bring May flower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urlz MT"/>
              </a:rPr>
              <a:t>New Lif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urlz MT"/>
              </a:rPr>
              <a:t>Sport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urlz MT"/>
              </a:rPr>
              <a:t>Thank You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4T18:36:15Z</dcterms:created>
  <dc:creator>WL</dc:creator>
  <dc:description/>
  <dc:language>en-US</dc:language>
  <cp:lastModifiedBy>CNCSC</cp:lastModifiedBy>
  <dcterms:modified xsi:type="dcterms:W3CDTF">2003-03-25T16:10:38Z</dcterms:modified>
  <cp:revision>3</cp:revision>
  <dc:subject/>
  <dc:title>Spring</dc:title>
</cp:coreProperties>
</file>